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7A9-D503-4810-9AD6-2BD86402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EBE-25F8-4FD1-8DE9-A4186720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5C4-BD40-40AF-A463-5E785C74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6FB3-F997-49AB-AD49-E288B28A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1962-F42D-4134-A3CD-7FC999D9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7EAD-2226-4EBE-94D9-5FBB07C7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0F6D-ED9C-4334-9392-49DABED9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4E87-7F9E-4C8A-91A1-8B1F919F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5925-EE07-4CDD-97F1-0E0A26F0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8732-0B93-4730-A1A0-68D0E274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5863-C16D-446E-B8BC-BFB4ABB6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A0C9-0EA4-45CC-939C-8048F954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D679-FB75-4843-AA6E-32001467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3251-9A63-4A4E-AA0A-03F27951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1D71-B955-4BB8-BFAE-860D6DB2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F38C-C1A5-4899-90FF-0E88E5FB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0DF3-BDE4-48B5-89F7-1993464F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E5C-F35A-489E-B344-702C0F11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AEB-53EA-4125-B2C3-A7C0EC31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4C93-FA43-450A-A1A4-C89A7233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F79-B836-40FF-8012-070C6352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FA8D-5191-4114-B6B7-08B004A4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3CE-18A7-439E-9B12-89B0AEA6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8B5-F716-4312-B337-1DF4F644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521D-438E-43F0-982F-7780B34A220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A53D-B4EC-42BD-A73C-33204B69AA1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10.3 The Half-Reaction Method for Balancing Equ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H4U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y 8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lancing the Net Ionic Rea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5Ag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5Ag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 5e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8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5e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 M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n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2+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 4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62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5Ag + 8H</a:t>
            </a:r>
            <a:r>
              <a:rPr b="0" lang="en-US" sz="2500" spc="-1" strike="noStrike" baseline="30000">
                <a:solidFill>
                  <a:srgbClr val="ffffcc"/>
                </a:solidFill>
                <a:latin typeface="Arial"/>
              </a:rPr>
              <a:t>+  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25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5e</a:t>
            </a:r>
            <a:r>
              <a:rPr b="0" lang="en-US" sz="2500" spc="-1" strike="noStrike" baseline="30000">
                <a:solidFill>
                  <a:srgbClr val="ffffcc"/>
                </a:solidFill>
                <a:latin typeface="Arial"/>
              </a:rPr>
              <a:t>- 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+ MnO</a:t>
            </a:r>
            <a:r>
              <a:rPr b="0" lang="en-US" sz="25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25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 5Ag</a:t>
            </a:r>
            <a:r>
              <a:rPr b="0" lang="en-US" sz="2500" spc="-1" strike="noStrike" baseline="30000">
                <a:solidFill>
                  <a:srgbClr val="ffffcc"/>
                </a:solidFill>
                <a:latin typeface="Arial"/>
              </a:rPr>
              <a:t>+ 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+ 5e</a:t>
            </a:r>
            <a:r>
              <a:rPr b="0" lang="en-US" sz="25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 + Mn</a:t>
            </a:r>
            <a:r>
              <a:rPr b="0" lang="en-US" sz="2500" spc="-1" strike="noStrike" baseline="30000">
                <a:solidFill>
                  <a:srgbClr val="ffffcc"/>
                </a:solidFill>
                <a:latin typeface="Arial"/>
              </a:rPr>
              <a:t>2+ 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+ 4H</a:t>
            </a:r>
            <a:r>
              <a:rPr b="0" lang="en-US" sz="25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O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11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ccff"/>
                </a:solidFill>
                <a:latin typeface="Arial"/>
              </a:rPr>
              <a:t>5Ag + 8H</a:t>
            </a:r>
            <a:r>
              <a:rPr b="0" lang="en-US" sz="2900" spc="-1" strike="noStrike" baseline="30000">
                <a:solidFill>
                  <a:srgbClr val="33ccff"/>
                </a:solidFill>
                <a:latin typeface="Arial"/>
              </a:rPr>
              <a:t>+  </a:t>
            </a:r>
            <a:r>
              <a:rPr b="0" lang="en-US" sz="2900" spc="-1" strike="noStrike">
                <a:solidFill>
                  <a:srgbClr val="33ccff"/>
                </a:solidFill>
                <a:latin typeface="Arial"/>
              </a:rPr>
              <a:t>+ MnO</a:t>
            </a:r>
            <a:r>
              <a:rPr b="0" lang="en-US" sz="2900" spc="-1" strike="noStrike" baseline="-25000">
                <a:solidFill>
                  <a:srgbClr val="33ccff"/>
                </a:solidFill>
                <a:latin typeface="Arial"/>
              </a:rPr>
              <a:t>4</a:t>
            </a:r>
            <a:r>
              <a:rPr b="0" lang="en-US" sz="2900" spc="-1" strike="noStrike" baseline="30000">
                <a:solidFill>
                  <a:srgbClr val="33ccff"/>
                </a:solidFill>
                <a:latin typeface="Arial"/>
              </a:rPr>
              <a:t>-</a:t>
            </a:r>
            <a:r>
              <a:rPr b="0" lang="en-US" sz="29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33ccff"/>
                </a:solidFill>
                <a:latin typeface="Arial"/>
              </a:rPr>
              <a:t> 5Ag</a:t>
            </a:r>
            <a:r>
              <a:rPr b="0" lang="en-US" sz="2900" spc="-1" strike="noStrike" baseline="30000">
                <a:solidFill>
                  <a:srgbClr val="33ccff"/>
                </a:solidFill>
                <a:latin typeface="Arial"/>
              </a:rPr>
              <a:t>+ </a:t>
            </a:r>
            <a:r>
              <a:rPr b="0" lang="en-US" sz="2900" spc="-1" strike="noStrike">
                <a:solidFill>
                  <a:srgbClr val="33ccff"/>
                </a:solidFill>
                <a:latin typeface="Arial"/>
              </a:rPr>
              <a:t>+ Mn</a:t>
            </a:r>
            <a:r>
              <a:rPr b="0" lang="en-US" sz="2900" spc="-1" strike="noStrike" baseline="30000">
                <a:solidFill>
                  <a:srgbClr val="33ccff"/>
                </a:solidFill>
                <a:latin typeface="Arial"/>
              </a:rPr>
              <a:t>2+ </a:t>
            </a:r>
            <a:r>
              <a:rPr b="0" lang="en-US" sz="2900" spc="-1" strike="noStrike">
                <a:solidFill>
                  <a:srgbClr val="33ccff"/>
                </a:solidFill>
                <a:latin typeface="Arial"/>
              </a:rPr>
              <a:t>+ 4H</a:t>
            </a:r>
            <a:r>
              <a:rPr b="0" lang="en-US" sz="2900" spc="-1" strike="noStrike" baseline="-25000">
                <a:solidFill>
                  <a:srgbClr val="33cc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33ccff"/>
                </a:solidFill>
                <a:latin typeface="Arial"/>
              </a:rPr>
              <a:t>O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429000"/>
            <a:ext cx="754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3657600"/>
            <a:ext cx="53316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3657600"/>
            <a:ext cx="533160" cy="4572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. 662 # 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. 668 # 2a, 3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. 673 # 6a, 7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lancing Half-Reac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lf-Reaction:  describes either the 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oxida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reduc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f a REDOX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ida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K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e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duc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2e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2C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t Reac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 + C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 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2KC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4724280"/>
            <a:ext cx="7010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lanced Half Reactions and Net Reac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t Reac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 + C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 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2KC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lanc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K + C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 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2KC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2 electrons lost        </a:t>
            </a:r>
            <a:r>
              <a:rPr b="0" lang="en-US" sz="2000" spc="-1" strike="noStrike">
                <a:solidFill>
                  <a:srgbClr val="3366cc"/>
                </a:solidFill>
                <a:latin typeface="Times New Roman"/>
              </a:rPr>
              <a:t>2 electrons gain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3048120"/>
            <a:ext cx="0" cy="5331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3581280"/>
            <a:ext cx="19051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705720" y="3047760"/>
            <a:ext cx="0" cy="5331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3048120"/>
            <a:ext cx="0" cy="16002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648320"/>
            <a:ext cx="152388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086600" y="3124080"/>
            <a:ext cx="0" cy="152424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3581280"/>
            <a:ext cx="0" cy="1752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4648320"/>
            <a:ext cx="0" cy="685800"/>
          </a:xfrm>
          <a:prstGeom prst="line">
            <a:avLst/>
          </a:prstGeom>
          <a:ln w="93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lancing Half-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ctions in Acidic Media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rite unbalanced half-rea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lance all atoms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</a:rPr>
              <a:t>EXCEPT for O and 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lance O by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adding H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lance H by 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adding H</a:t>
            </a:r>
            <a:r>
              <a:rPr b="0" lang="en-US" sz="3200" spc="-1" strike="noStrike" baseline="30000">
                <a:solidFill>
                  <a:srgbClr val="3366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 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lance the charges by adding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</a:rPr>
              <a:t>electr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lancing Half-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ctions in Acidic Med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 3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 (add water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Cl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 3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 (add H ion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6e</a:t>
            </a:r>
            <a:r>
              <a:rPr b="0" lang="en-US" sz="3000" spc="-1" strike="noStrike" baseline="30000">
                <a:solidFill>
                  <a:srgbClr val="ffcc00"/>
                </a:solidFill>
                <a:latin typeface="Times New Roman"/>
              </a:rPr>
              <a:t>-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 + 6H</a:t>
            </a:r>
            <a:r>
              <a:rPr b="0" lang="en-US" sz="3000" spc="-1" strike="noStrike" baseline="30000">
                <a:solidFill>
                  <a:srgbClr val="ffcc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 + ClO</a:t>
            </a:r>
            <a:r>
              <a:rPr b="0" lang="en-US" sz="3000" spc="-1" strike="noStrike" baseline="-25000">
                <a:solidFill>
                  <a:srgbClr val="ffcc00"/>
                </a:solidFill>
                <a:latin typeface="Times New Roman"/>
              </a:rPr>
              <a:t>3 </a:t>
            </a:r>
            <a:r>
              <a:rPr b="0" lang="en-US" sz="3000" spc="-1" strike="noStrike" baseline="30000">
                <a:solidFill>
                  <a:srgbClr val="ffcc00"/>
                </a:solidFill>
                <a:latin typeface="Times New Roman"/>
              </a:rPr>
              <a:t>-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 Cl</a:t>
            </a:r>
            <a:r>
              <a:rPr b="0" lang="en-US" sz="3000" spc="-1" strike="noStrike" baseline="30000">
                <a:solidFill>
                  <a:srgbClr val="ffcc00"/>
                </a:solidFill>
                <a:latin typeface="Times New Roman"/>
              </a:rPr>
              <a:t>-  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+ 3H</a:t>
            </a:r>
            <a:r>
              <a:rPr b="0" lang="en-US" sz="3000" spc="-1" strike="noStrike" baseline="-25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O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(add electrons)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952880"/>
            <a:ext cx="0" cy="609840"/>
          </a:xfrm>
          <a:prstGeom prst="line">
            <a:avLst/>
          </a:prstGeom>
          <a:ln w="381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lancing Half-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ctions in Basic Med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rite unbalanced half-rea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lance all atoms </a:t>
            </a: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EXCEPT for O and 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lance O by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dding H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lance H by 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adding H</a:t>
            </a:r>
            <a:r>
              <a:rPr b="0" lang="en-US" sz="2800" spc="-1" strike="noStrike" baseline="30000">
                <a:solidFill>
                  <a:srgbClr val="3366cc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BOTH sides, add as many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H</a:t>
            </a:r>
            <a:r>
              <a:rPr b="0" lang="en-US" sz="2800" spc="-1" strike="noStrike" baseline="30000">
                <a:solidFill>
                  <a:srgbClr val="ffcc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s 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3366cc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ere add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mplify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H</a:t>
            </a:r>
            <a:r>
              <a:rPr b="0" lang="en-US" sz="2800" spc="-1" strike="noStrike" baseline="30000">
                <a:solidFill>
                  <a:srgbClr val="ffcc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3366cc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if possi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move excess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rom both si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lance the charges by adding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lancing Half-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ctions in Basic Med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 2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4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+ M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 2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OH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+ 4H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+ Mn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Mn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+ 2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 + 4OH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OH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3e</a:t>
            </a:r>
            <a:r>
              <a:rPr b="0" lang="en-US" sz="2800" spc="-1" strike="noStrike" baseline="30000">
                <a:solidFill>
                  <a:srgbClr val="33cc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 + 4H</a:t>
            </a:r>
            <a:r>
              <a:rPr b="0" lang="en-US" sz="2800" spc="-1" strike="noStrike" baseline="30000">
                <a:solidFill>
                  <a:srgbClr val="33cc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+ Mn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Mn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+ 2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 + 4OH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Arial"/>
              </a:rPr>
              <a:t>4H</a:t>
            </a:r>
            <a:r>
              <a:rPr b="0" lang="en-US" sz="31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cc00"/>
                </a:solidFill>
                <a:latin typeface="Arial"/>
              </a:rPr>
              <a:t>O</a:t>
            </a: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 + 3e</a:t>
            </a:r>
            <a:r>
              <a:rPr b="0" lang="en-US" sz="3100" spc="-1" strike="noStrike" baseline="30000">
                <a:solidFill>
                  <a:srgbClr val="ffffcc"/>
                </a:solidFill>
                <a:latin typeface="Arial"/>
              </a:rPr>
              <a:t>- </a:t>
            </a: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+MnO</a:t>
            </a:r>
            <a:r>
              <a:rPr b="0" lang="en-US" sz="31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31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 MnO</a:t>
            </a:r>
            <a:r>
              <a:rPr b="0" lang="en-US" sz="3100" spc="-1" strike="noStrike" baseline="-25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n-US" sz="3100" spc="-1" strike="noStrike">
                <a:solidFill>
                  <a:srgbClr val="3366cc"/>
                </a:solidFill>
                <a:latin typeface="Arial"/>
              </a:rPr>
              <a:t>2H</a:t>
            </a:r>
            <a:r>
              <a:rPr b="0" lang="en-US" sz="3100" spc="-1" strike="noStrike" baseline="-25000">
                <a:solidFill>
                  <a:srgbClr val="3366cc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3366cc"/>
                </a:solidFill>
                <a:latin typeface="Arial"/>
              </a:rPr>
              <a:t>O</a:t>
            </a: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 + 4OH</a:t>
            </a:r>
            <a:r>
              <a:rPr b="0" lang="en-US" sz="31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2H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O + 3e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+ Mn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Mn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+ 4OH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352680"/>
            <a:ext cx="1905120" cy="533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3505320"/>
            <a:ext cx="380880" cy="1828800"/>
          </a:xfrm>
          <a:custGeom>
            <a:avLst/>
            <a:gdLst>
              <a:gd name="textAreaLeft" fmla="*/ 50760 w 380880"/>
              <a:gd name="textAreaRight" fmla="*/ 330120 w 38088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lancing the Net Ionic Rea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Electrons are neither </a:t>
            </a:r>
            <a:r>
              <a:rPr b="0" lang="en-US" sz="3000" spc="-1" strike="noStrike">
                <a:solidFill>
                  <a:srgbClr val="3366cc"/>
                </a:solidFill>
                <a:latin typeface="Arial"/>
              </a:rPr>
              <a:t>created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nor </a:t>
            </a:r>
            <a:r>
              <a:rPr b="0" lang="en-US" sz="3000" spc="-1" strike="noStrike">
                <a:solidFill>
                  <a:srgbClr val="3366cc"/>
                </a:solidFill>
                <a:latin typeface="Arial"/>
              </a:rPr>
              <a:t>destroyed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33ccff"/>
                </a:solidFill>
                <a:latin typeface="Arial"/>
              </a:rPr>
              <a:t>Electrons lost = Electrons gained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Break the reaction into 2 half-reaction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Balance the half-reactions separately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Multiply both by the lowest common multipl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combine the two half-reaction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mplify by removing electrons and excess speci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lancing the Net Ionic Rea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n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+ Ag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Mn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+ Ag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acidic condition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819520"/>
            <a:ext cx="304812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Oxid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g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Ag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+ e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balanced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or a 5e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transfer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5Ag </a:t>
            </a:r>
            <a:r>
              <a:rPr b="1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 5Ag+ + 5e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819520"/>
            <a:ext cx="48006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Redu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nO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2+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nO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2+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+ 4H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8H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+ MnO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2+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+ 4H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8H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+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+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5e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+ MnO</a:t>
            </a:r>
            <a:r>
              <a:rPr b="1" lang="en-US" sz="2400" spc="-1" strike="noStrike" baseline="-25000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Mn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2+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+ 4H</a:t>
            </a:r>
            <a:r>
              <a:rPr b="1" lang="en-US" sz="24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6:13Z</dcterms:created>
  <dc:creator>Leslie Fradkin</dc:creator>
  <dc:description/>
  <dc:language>en-US</dc:language>
  <cp:lastModifiedBy>FradkiL</cp:lastModifiedBy>
  <cp:lastPrinted>2005-05-25T14:04:29Z</cp:lastPrinted>
  <dcterms:modified xsi:type="dcterms:W3CDTF">2009-05-08T17:45:38Z</dcterms:modified>
  <cp:revision>15</cp:revision>
  <dc:subject/>
  <dc:title>10.3 The Half-Reaction Method for Balancing Equations</dc:title>
</cp:coreProperties>
</file>